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843-86B9-495A-B757-BFAED1EB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8FB-D43F-4C0A-AA7D-980CCDB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B0A-6F34-4B17-AD6D-A8DA5F75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C8C-079B-4608-B21D-5108045B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8A9-434B-49E7-A284-8CE56A66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FC4-8C0D-4062-B5B7-037471A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808-47B2-4FFC-9D32-9C592581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274-1872-48FF-8016-30E7C37F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1DF-2DE9-482F-B818-24AB91E5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B71-71EE-48F8-9CB1-D742219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BFD-2F69-4E7B-B34F-F16EA56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0EC-7A34-4E94-B405-E939430D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7E19-368A-4C2D-8EA1-12E052C3C2A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225360" y="1547640"/>
            <a:ext cx="8699400" cy="2140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33520" y="6098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914400" y="1143000"/>
                <a:ext cx="1866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6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14400" y="1828800"/>
                <a:ext cx="2781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/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3809880" y="2057400"/>
                <a:ext cx="190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990720" y="2590920"/>
                <a:ext cx="351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Rectangle 11"/>
          <p:cNvSpPr/>
          <p:nvPr/>
        </p:nvSpPr>
        <p:spPr>
          <a:xfrm>
            <a:off x="589320" y="358128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1143000" y="3962520"/>
                <a:ext cx="1990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1143000" y="4343400"/>
                <a:ext cx="2009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143000" y="4724280"/>
                <a:ext cx="3019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6"/>
              <p:cNvSpPr txBox="1"/>
              <p:nvPr/>
            </p:nvSpPr>
            <p:spPr>
              <a:xfrm>
                <a:off x="1219320" y="5181480"/>
                <a:ext cx="1876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990720" y="5791320"/>
                <a:ext cx="4105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"/>
              <p:cNvSpPr txBox="1"/>
              <p:nvPr/>
            </p:nvSpPr>
            <p:spPr>
              <a:xfrm>
                <a:off x="1270080" y="820800"/>
                <a:ext cx="7035840" cy="46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532080" y="457200"/>
            <a:ext cx="492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e de dou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cu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 dou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unos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7200" y="1371600"/>
            <a:ext cx="631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Franklin Gothic Book"/>
              </a:rPr>
              <a:t>Def.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Un sistem de do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 ecu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ii cu do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 necunoscute are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"/>
              <p:cNvSpPr txBox="1"/>
              <p:nvPr/>
            </p:nvSpPr>
            <p:spPr>
              <a:xfrm>
                <a:off x="1066680" y="1828800"/>
                <a:ext cx="21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: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Box 9"/>
          <p:cNvSpPr/>
          <p:nvPr/>
        </p:nvSpPr>
        <p:spPr>
          <a:xfrm>
            <a:off x="609480" y="2743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de  a, b se numesc coeficienţii necunoscutelor , iar  c termenii lib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67760" y="3276720"/>
            <a:ext cx="92332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f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numeşte soluţie a sistemului orice cuplu (s</a:t>
            </a:r>
            <a:r>
              <a:rPr b="0" lang="ro-RO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, s</a:t>
            </a:r>
            <a:r>
              <a:rPr b="0" lang="ro-RO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) care este soluţie pentru fiecare din ecuaţi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istemului.Studiul soluţiilor unui sistem de ecuaţii conduce la trei probl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existenta soluţiilor (condiţiile în care un sistem admite soluţ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găsirea unei metode de obţinere a soluţ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determinarea tuturor soluţ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304920" y="4572000"/>
            <a:ext cx="86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n sistem care nu are nici o soluţie se numeşte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incompatibi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. Dacă sistemul are soluţ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spune că est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mpatibi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termin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u o soluţie şi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edetermin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u mai mul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oluţ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ouă sistem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sunt echivalen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că sunt amândouă incompatibile sau sunt amândou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mpatibile şi au aceleaşi soluţ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540720" y="762120"/>
            <a:ext cx="80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toda de rezolva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 unui sistem constă în a înlocui sistemul dat printr-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ou sistem care este echivalent cu primul , dar care poate fi rezolvat mai uşor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379520" y="2133720"/>
            <a:ext cx="702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ransformări asupra ecuaţiilor unui si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1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unarea unei ecuaţii a sistemului la o altă ecuaţie a siste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2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mulţirea ecuaţiilor sistemului prin factori ne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3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 ordinii ecuaţiilor într-un si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85800" y="4495680"/>
            <a:ext cx="546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tode de rezo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1.Metoda combinaţiilor liniare (metoda reducer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.Metoda substitu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649240" y="38088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LICA</a:t>
            </a:r>
            <a:r>
              <a:rPr b="0" lang="ro-RO" sz="4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04480" y="1600200"/>
            <a:ext cx="29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METODA REDUCE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882720" y="2819520"/>
                <a:ext cx="2892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3905280" y="2971800"/>
                <a:ext cx="1647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838080" y="3809880"/>
                <a:ext cx="5229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Box 11"/>
          <p:cNvSpPr/>
          <p:nvPr/>
        </p:nvSpPr>
        <p:spPr>
          <a:xfrm>
            <a:off x="1302120" y="5105520"/>
            <a:ext cx="22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ul are sol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429000" y="5105520"/>
                <a:ext cx="714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687600" y="685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914400" y="1219320"/>
                <a:ext cx="4915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914400" y="1981080"/>
                <a:ext cx="30193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TextBox 7"/>
          <p:cNvSpPr/>
          <p:nvPr/>
        </p:nvSpPr>
        <p:spPr>
          <a:xfrm>
            <a:off x="977400" y="304812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stemul are solutia (7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63920" y="4038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066680" y="4419720"/>
                <a:ext cx="4886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1066680" y="5029200"/>
                <a:ext cx="490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Box 13"/>
          <p:cNvSpPr/>
          <p:nvPr/>
        </p:nvSpPr>
        <p:spPr>
          <a:xfrm>
            <a:off x="816840" y="601992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stemul are solutia (-3;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846720" y="762120"/>
            <a:ext cx="768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ODA SUBSTITU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oced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f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coate o necunoscu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n una din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ntroduce necunoscuta sco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a doua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f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unoscu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sol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 afl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revine la prima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e af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oua necunoscu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39160" y="3505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"/>
              <p:cNvSpPr txBox="1"/>
              <p:nvPr/>
            </p:nvSpPr>
            <p:spPr>
              <a:xfrm>
                <a:off x="1295280" y="3809880"/>
                <a:ext cx="156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295280" y="4419720"/>
                <a:ext cx="4762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1371600" y="4800600"/>
                <a:ext cx="1704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3124080" y="4800600"/>
                <a:ext cx="190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3352680" y="4800600"/>
                <a:ext cx="6480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839880" y="762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1219320" y="1143000"/>
                <a:ext cx="2895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4572000" y="1676520"/>
                <a:ext cx="25146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50960" y="3352680"/>
                <a:ext cx="226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Box 10"/>
          <p:cNvSpPr/>
          <p:nvPr/>
        </p:nvSpPr>
        <p:spPr>
          <a:xfrm>
            <a:off x="2073960" y="4191120"/>
            <a:ext cx="4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2438280" y="4191120"/>
                <a:ext cx="723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533520" y="60984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ETODE COMB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86880" y="1752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066680" y="1752480"/>
                <a:ext cx="1400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Box 6"/>
          <p:cNvSpPr/>
          <p:nvPr/>
        </p:nvSpPr>
        <p:spPr>
          <a:xfrm>
            <a:off x="838080" y="274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981080" y="27432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Box 9"/>
          <p:cNvSpPr/>
          <p:nvPr/>
        </p:nvSpPr>
        <p:spPr>
          <a:xfrm>
            <a:off x="28954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733920" y="27432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3505320" y="2895480"/>
                <a:ext cx="1904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1054080" y="3200400"/>
                <a:ext cx="486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1066680" y="3809880"/>
                <a:ext cx="2962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4"/>
          <p:cNvSpPr/>
          <p:nvPr/>
        </p:nvSpPr>
        <p:spPr>
          <a:xfrm>
            <a:off x="1066680" y="41151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em dec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2286000" y="4267080"/>
                <a:ext cx="771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2286000" y="5257800"/>
                <a:ext cx="461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2286000" y="5867280"/>
                <a:ext cx="1171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1"/>
              <p:cNvSpPr txBox="1"/>
              <p:nvPr/>
            </p:nvSpPr>
            <p:spPr>
              <a:xfrm>
                <a:off x="3581280" y="5867280"/>
                <a:ext cx="87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80880" y="609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762120" y="1219320"/>
                <a:ext cx="119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762120" y="1828800"/>
                <a:ext cx="5410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/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838080" y="2514600"/>
                <a:ext cx="36673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838080" y="3048120"/>
                <a:ext cx="2314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838080" y="4114800"/>
                <a:ext cx="12956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0:34:46Z</dcterms:created>
  <dc:creator>*</dc:creator>
  <dc:description/>
  <dc:language>en-US</dc:language>
  <cp:lastModifiedBy>user</cp:lastModifiedBy>
  <dcterms:modified xsi:type="dcterms:W3CDTF">2010-12-09T06:42:56Z</dcterms:modified>
  <cp:revision>14</cp:revision>
  <dc:subject/>
  <dc:title>Sisteme de ecuatii</dc:title>
</cp:coreProperties>
</file>